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35592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116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05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61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05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61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991-EB12-482E-BFEE-E996F8CB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36D-C278-412E-8631-EBA87A9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DF6-F7DF-4893-9952-5687C609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95E-DBBA-4562-9F75-D0A98BD7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8A0-8C6C-405F-B361-61B649C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7160" y="-5940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A3-FE63-4859-B543-048AE52E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4FB-E1FA-45DE-A74C-2BF7FDD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116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E35-48D9-4A67-AB36-577CDE7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EF3-DE3E-4B7E-854B-AD26A2C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35592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75A-4C71-433A-BFD7-3EF59E2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116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D26-7EDE-49E9-9C0F-6AE7A7C7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05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6120" y="120636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05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6120" y="335592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474-9477-45FF-A9CE-112F8073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-5940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1160" y="335592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1160" y="120636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35592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RTHSEPA" descr=""/>
          <p:cNvPicPr/>
          <p:nvPr/>
        </p:nvPicPr>
        <p:blipFill>
          <a:blip r:embed="rId3"/>
          <a:stretch/>
        </p:blipFill>
        <p:spPr>
          <a:xfrm>
            <a:off x="6000840" y="6122880"/>
            <a:ext cx="3143160" cy="74880"/>
          </a:xfrm>
          <a:prstGeom prst="rect">
            <a:avLst/>
          </a:prstGeom>
          <a:ln w="0">
            <a:noFill/>
          </a:ln>
        </p:spPr>
      </p:pic>
      <p:pic>
        <p:nvPicPr>
          <p:cNvPr id="1" name="Arthsepa" descr=""/>
          <p:cNvPicPr/>
          <p:nvPr/>
        </p:nvPicPr>
        <p:blipFill>
          <a:blip r:embed="rId4"/>
          <a:stretch/>
        </p:blipFill>
        <p:spPr>
          <a:xfrm>
            <a:off x="-4680" y="1046160"/>
            <a:ext cx="4495680" cy="9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-5940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">
            <a:hlinkClick r:id="rId5" action="ppaction://hlinksldjump"/>
          </p:cNvPr>
          <p:cNvSpPr/>
          <p:nvPr/>
        </p:nvSpPr>
        <p:spPr>
          <a:xfrm>
            <a:off x="8242200" y="62737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222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Les liaisons complètes</a:t>
            </a: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3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CF9-67EA-4271-A35E-305FC8CAB273}" type="slidenum">
              <a:rPr b="0" lang="fr-FR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chapeau-corps.SLDAS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sujet-ens_mobile.SLDASM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19807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Anémomètre :  liaisons complèt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afaf"/>
                </a:solidFill>
                <a:uFillTx/>
                <a:latin typeface="Arial"/>
                <a:hlinkClick r:id="rId2" action="ppaction://hlinksldjump"/>
              </a:rPr>
              <a:t>1ière Génie des matériaux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afaf"/>
                </a:solidFill>
                <a:uFillTx/>
                <a:latin typeface="Arial"/>
                <a:hlinkClick r:id="rId3" action="ppaction://hlinksldjump"/>
              </a:rPr>
              <a:t>Décembre 2005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962160"/>
            <a:ext cx="820872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Arial"/>
              </a:rPr>
              <a:t>Objectif : étudier la technologie des liaisons complètes du systèm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71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Présentation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043080" cy="2941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447920"/>
            <a:ext cx="4496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Sous-système du store Somfy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33"/>
                </a:solidFill>
                <a:latin typeface="Rockwell"/>
                <a:ea typeface="Times New Roman"/>
              </a:rPr>
              <a:t> </a:t>
            </a:r>
            <a:r>
              <a:rPr b="0" lang="fr-FR" sz="2400" spc="-1" strike="noStrike" u="sng">
                <a:solidFill>
                  <a:srgbClr val="660033"/>
                </a:solidFill>
                <a:uFillTx/>
                <a:latin typeface="Arial"/>
              </a:rPr>
              <a:t>Fonction technique</a:t>
            </a: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  :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acquérir la vitesse du vent</a:t>
            </a:r>
            <a:r>
              <a:rPr b="0" lang="fr-FR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Présentation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33"/>
                </a:solidFill>
                <a:latin typeface="Arial"/>
              </a:rPr>
              <a:t>La girouette est animée d’un mouvement de rotation par rapport au bâti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33"/>
                </a:solidFill>
                <a:latin typeface="Arial"/>
              </a:rPr>
              <a:t>2 groupes solidifiants 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5" name="im10" descr=""/>
          <p:cNvPicPr/>
          <p:nvPr/>
        </p:nvPicPr>
        <p:blipFill>
          <a:blip r:embed="rId2"/>
          <a:stretch/>
        </p:blipFill>
        <p:spPr>
          <a:xfrm>
            <a:off x="3533760" y="3948120"/>
            <a:ext cx="2257560" cy="2071800"/>
          </a:xfrm>
          <a:prstGeom prst="rect">
            <a:avLst/>
          </a:prstGeom>
          <a:ln w="0">
            <a:noFill/>
          </a:ln>
        </p:spPr>
      </p:pic>
      <p:pic>
        <p:nvPicPr>
          <p:cNvPr id="96" name="im11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629080" cy="206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3505320"/>
            <a:ext cx="2362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Ensemble mobile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490920"/>
            <a:ext cx="2286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Ensemble fixe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715000" y="838080"/>
            <a:ext cx="3200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Graphe de montag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Arial"/>
              </a:rPr>
              <a:t>Matériel disponible 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Système réel assemblé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Système en pièces détaché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Maquette Solid Work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Arial"/>
              </a:rPr>
              <a:t>Travail demandé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Compléter le graphe de montage en identifiant les solutions technologiques de liaison complèt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2" name="im14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590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Ensemble fix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57909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33"/>
                </a:solidFill>
                <a:latin typeface="Arial"/>
              </a:rPr>
              <a:t>Réaliser sous Solid Works la mise en position du chapeau et du corps en cliquant sur l’image ci-contre.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123480" indent="-123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33"/>
                </a:solidFill>
                <a:latin typeface="Arial"/>
              </a:rPr>
              <a:t>Sur la fiche de synthèse, repérer</a:t>
            </a:r>
            <a:r>
              <a:rPr b="0" lang="fr-FR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-82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33"/>
                </a:solidFill>
                <a:latin typeface="Arial"/>
              </a:rPr>
              <a:t>En rouge la surface de MIP principal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-82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33"/>
                </a:solidFill>
                <a:latin typeface="Arial"/>
              </a:rPr>
              <a:t>En vert la surface de MIP secondair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-82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33"/>
                </a:solidFill>
                <a:latin typeface="Arial"/>
              </a:rPr>
              <a:t>En bleu la surface  de MIP tertiaire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123480" indent="-123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33"/>
                </a:solidFill>
                <a:latin typeface="Arial"/>
              </a:rPr>
              <a:t>Compléter les FAST de description des formes du chapeau et du corps</a:t>
            </a:r>
            <a:r>
              <a:rPr b="0" lang="fr-FR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12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5" name="im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1371600"/>
            <a:ext cx="21621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38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Ensemble mobil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0636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33"/>
                </a:solidFill>
                <a:latin typeface="Arial"/>
              </a:rPr>
              <a:t>Réaliser sous Solid Works la mise en position des trois pièces de l’ensemble mobile à partir de l’image ci-dessou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33"/>
                </a:solidFill>
                <a:latin typeface="Arial"/>
              </a:rPr>
              <a:t>Sur la fiche de synthèse, sur la mise en plan éclaté repérer</a:t>
            </a:r>
            <a:r>
              <a:rPr b="0" lang="fr-FR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Arial"/>
              </a:rPr>
              <a:t>En rouge les surfaces de MIP principal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8" name="im1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624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1:15:33Z</dcterms:created>
  <dc:creator>stephane</dc:creator>
  <dc:description/>
  <dc:language>en-US</dc:language>
  <cp:lastModifiedBy>breneur</cp:lastModifiedBy>
  <dcterms:modified xsi:type="dcterms:W3CDTF">2005-12-12T10:07:22Z</dcterms:modified>
  <cp:revision>36</cp:revision>
  <dc:subject/>
  <dc:title>Les liaisons encastrements</dc:title>
</cp:coreProperties>
</file>