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ACC-AF09-49C0-A779-75103B5A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A81-6378-4017-A7F0-49CDB0D9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3E7-C0AB-4DCE-A312-31E88D6D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7A1-A855-4A9A-8FBB-F8824400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419-4BB9-4073-AA81-8081AFDC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A33-1388-4667-8855-08F20E8A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08C-31EB-449E-9708-E8FD7B96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76E-9A2A-4606-8917-F8EDB18A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60E-C5D3-4422-B4E9-E448D4A5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9FE-C033-4B6E-A53C-DAA3E58E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622-0543-479B-9FA3-25F2562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025-0446-496B-81E2-99F446BA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0B59-42A9-4109-83EC-E9523B5D9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i&#232;ces/cylindre.SLDPRT" TargetMode="External"/><Relationship Id="rId2" Type="http://schemas.openxmlformats.org/officeDocument/2006/relationships/hyperlink" Target="file:///pi&#232;ces/tore.SLDPRT" TargetMode="External"/><Relationship Id="rId3" Type="http://schemas.openxmlformats.org/officeDocument/2006/relationships/hyperlink" Target="file:///pi&#232;ces/c&#244;ne1.SLDPRT" TargetMode="External"/><Relationship Id="rId4" Type="http://schemas.openxmlformats.org/officeDocument/2006/relationships/hyperlink" Target="file:///pi&#232;ces/c&#244;ne2.SLDPRT" TargetMode="External"/><Relationship Id="rId5" Type="http://schemas.openxmlformats.org/officeDocument/2006/relationships/hyperlink" Target="file:///pi&#232;ces/sphere.SLDPRT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file:///robinet/Bague.SLDPRT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7280" y="533520"/>
            <a:ext cx="800100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ttenti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680" y="18748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Ce document ne décrit pas la démarche de construction de volumes élémentaires sous Solid 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680" y="38098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l s’agit de donner une définition mathématique simplifiée et imagée des surfaces élémentaires dont nous avons besoin en construction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114300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segment S1 parcourt un autre segment 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35218" t="20551" r="12104" b="27848"/>
          <a:stretch/>
        </p:blipFill>
        <p:spPr>
          <a:xfrm>
            <a:off x="5791320" y="2666880"/>
            <a:ext cx="2971800" cy="260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72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Génération de surfaces élémentaires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828800"/>
            <a:ext cx="4952880" cy="4299840"/>
            <a:chOff x="457200" y="1828800"/>
            <a:chExt cx="4952880" cy="4299840"/>
          </a:xfrm>
        </p:grpSpPr>
        <p:pic>
          <p:nvPicPr>
            <p:cNvPr id="48" name="im1" descr=""/>
            <p:cNvPicPr/>
            <p:nvPr/>
          </p:nvPicPr>
          <p:blipFill>
            <a:blip r:embed="rId2"/>
            <a:stretch/>
          </p:blipFill>
          <p:spPr>
            <a:xfrm>
              <a:off x="457200" y="2438280"/>
              <a:ext cx="495288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flipH="1">
              <a:off x="1547640" y="2209680"/>
              <a:ext cx="76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652760" y="4765680"/>
              <a:ext cx="7617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920" y="182880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920" y="579132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800600" y="6186600"/>
            <a:ext cx="396252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1 =génératrice, S2 = direct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cercle C1 parcou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segment 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4229" t="11330" r="10703" b="18626"/>
          <a:stretch/>
        </p:blipFill>
        <p:spPr>
          <a:xfrm>
            <a:off x="158760" y="4343400"/>
            <a:ext cx="2895480" cy="211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72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Génération de surfaces élémentaires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lin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7040" y="914400"/>
            <a:ext cx="30477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segment S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cou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cercle C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914400"/>
            <a:ext cx="30481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segment S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ur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ur de l’axe 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265800" y="4343400"/>
            <a:ext cx="2702160" cy="2089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7920" y="4343400"/>
            <a:ext cx="2833920" cy="21924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480960" y="1852560"/>
            <a:ext cx="2895480" cy="2242440"/>
            <a:chOff x="480960" y="1852560"/>
            <a:chExt cx="2895480" cy="2242440"/>
          </a:xfrm>
        </p:grpSpPr>
        <p:pic>
          <p:nvPicPr>
            <p:cNvPr id="62" name="im4" descr=""/>
            <p:cNvPicPr/>
            <p:nvPr/>
          </p:nvPicPr>
          <p:blipFill>
            <a:blip r:embed="rId4"/>
            <a:stretch/>
          </p:blipFill>
          <p:spPr>
            <a:xfrm>
              <a:off x="480960" y="2228760"/>
              <a:ext cx="239544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flipH="1">
              <a:off x="2420640" y="202896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1840" y="3147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19240" y="185256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3240" y="375768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1905120"/>
            <a:ext cx="2590200" cy="2467440"/>
            <a:chOff x="3276720" y="1905120"/>
            <a:chExt cx="2590200" cy="2467440"/>
          </a:xfrm>
        </p:grpSpPr>
        <p:pic>
          <p:nvPicPr>
            <p:cNvPr id="68" name="im2" descr=""/>
            <p:cNvPicPr/>
            <p:nvPr/>
          </p:nvPicPr>
          <p:blipFill>
            <a:blip r:embed="rId5"/>
            <a:stretch/>
          </p:blipFill>
          <p:spPr>
            <a:xfrm>
              <a:off x="3457440" y="2206440"/>
              <a:ext cx="2409480" cy="19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flipH="1">
              <a:off x="4600440" y="2282760"/>
              <a:ext cx="22824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470040" y="3654000"/>
              <a:ext cx="76176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70280" y="1905120"/>
              <a:ext cx="45684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4035240"/>
              <a:ext cx="45684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472080" y="1946160"/>
            <a:ext cx="2367000" cy="2134440"/>
            <a:chOff x="6472080" y="1946160"/>
            <a:chExt cx="2367000" cy="2134440"/>
          </a:xfrm>
        </p:grpSpPr>
        <p:pic>
          <p:nvPicPr>
            <p:cNvPr id="74" name="im3" descr=""/>
            <p:cNvPicPr/>
            <p:nvPr/>
          </p:nvPicPr>
          <p:blipFill>
            <a:blip r:embed="rId6"/>
            <a:stretch/>
          </p:blipFill>
          <p:spPr>
            <a:xfrm>
              <a:off x="6472080" y="2247840"/>
              <a:ext cx="236700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flipH="1">
              <a:off x="7544880" y="23238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15080" y="194616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995600" y="3009600"/>
              <a:ext cx="304920" cy="7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07200" y="374328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689200" y="6445080"/>
            <a:ext cx="9684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61200" y="6445080"/>
            <a:ext cx="9684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1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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1066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segment S1 parcourt un cercle 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2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Génération de surfaces élémentaires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ô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2800" y="4272120"/>
            <a:ext cx="2766960" cy="2482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27760" y="907920"/>
            <a:ext cx="3047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segment S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urne autour de l’axe 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77920" y="4321080"/>
            <a:ext cx="2690640" cy="241452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219320" y="1828800"/>
            <a:ext cx="2895480" cy="2362320"/>
            <a:chOff x="1219320" y="1828800"/>
            <a:chExt cx="2895480" cy="2362320"/>
          </a:xfrm>
        </p:grpSpPr>
        <p:pic>
          <p:nvPicPr>
            <p:cNvPr id="87" name="im6" descr=""/>
            <p:cNvPicPr/>
            <p:nvPr/>
          </p:nvPicPr>
          <p:blipFill>
            <a:blip r:embed="rId3"/>
            <a:stretch/>
          </p:blipFill>
          <p:spPr>
            <a:xfrm>
              <a:off x="1447920" y="1828800"/>
              <a:ext cx="219060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flipH="1">
              <a:off x="2964960" y="2438280"/>
              <a:ext cx="69228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7600" y="220968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600200" y="22096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9320" y="217800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45080" y="1722600"/>
            <a:ext cx="2843280" cy="2457360"/>
            <a:chOff x="5545080" y="1722600"/>
            <a:chExt cx="2843280" cy="2457360"/>
          </a:xfrm>
        </p:grpSpPr>
        <p:pic>
          <p:nvPicPr>
            <p:cNvPr id="93" name="im5" descr=""/>
            <p:cNvPicPr/>
            <p:nvPr/>
          </p:nvPicPr>
          <p:blipFill>
            <a:blip r:embed="rId4"/>
            <a:stretch/>
          </p:blipFill>
          <p:spPr>
            <a:xfrm>
              <a:off x="5610240" y="1722600"/>
              <a:ext cx="23335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7238520" y="2470320"/>
              <a:ext cx="69228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1160" y="224172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925960" y="2241360"/>
              <a:ext cx="838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45080" y="220968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106668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cercle C1 parcourt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rcle C2 plus g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72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Génération de surfaces élémentaires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990720"/>
            <a:ext cx="2895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cercle C1 tour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ur d’un axe 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4038480"/>
            <a:ext cx="2629080" cy="2500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2629080" cy="25005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09480" y="2057400"/>
            <a:ext cx="3892680" cy="1838160"/>
            <a:chOff x="609480" y="2057400"/>
            <a:chExt cx="3892680" cy="1838160"/>
          </a:xfrm>
        </p:grpSpPr>
        <p:pic>
          <p:nvPicPr>
            <p:cNvPr id="104" name="im8" descr=""/>
            <p:cNvPicPr/>
            <p:nvPr/>
          </p:nvPicPr>
          <p:blipFill>
            <a:blip r:embed="rId3"/>
            <a:stretch/>
          </p:blipFill>
          <p:spPr>
            <a:xfrm>
              <a:off x="914400" y="2057400"/>
              <a:ext cx="30384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flipH="1" flipV="1">
              <a:off x="3435120" y="33937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44960" y="347040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6680" y="2286000"/>
              <a:ext cx="457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205740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946760" y="2033640"/>
            <a:ext cx="3406680" cy="1851120"/>
            <a:chOff x="4946760" y="2033640"/>
            <a:chExt cx="3406680" cy="1851120"/>
          </a:xfrm>
        </p:grpSpPr>
        <p:pic>
          <p:nvPicPr>
            <p:cNvPr id="110" name="im7" descr=""/>
            <p:cNvPicPr/>
            <p:nvPr/>
          </p:nvPicPr>
          <p:blipFill>
            <a:blip r:embed="rId4"/>
            <a:stretch/>
          </p:blipFill>
          <p:spPr>
            <a:xfrm>
              <a:off x="5334120" y="2057400"/>
              <a:ext cx="301932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flipH="1">
              <a:off x="7010280" y="22860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3880" y="205740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960" y="2262240"/>
              <a:ext cx="457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6760" y="203364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572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Génération de surfaces élémentaires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im9" descr=""/>
          <p:cNvPicPr/>
          <p:nvPr/>
        </p:nvPicPr>
        <p:blipFill>
          <a:blip r:embed="rId1"/>
          <a:stretch/>
        </p:blipFill>
        <p:spPr>
          <a:xfrm>
            <a:off x="838080" y="2117880"/>
            <a:ext cx="3048120" cy="2622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43000" y="106668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cercle C1 tou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ur d’un axe 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066680"/>
            <a:ext cx="2895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point p1 tourne au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’un point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514240" y="39621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4419720"/>
            <a:ext cx="4572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362320"/>
            <a:ext cx="38088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057400"/>
            <a:ext cx="4572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410080"/>
            <a:ext cx="312408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1 est  sur un diamètre de C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410080" y="2057400"/>
            <a:ext cx="2743200" cy="2657520"/>
            <a:chOff x="5410080" y="2057400"/>
            <a:chExt cx="2743200" cy="2657520"/>
          </a:xfrm>
        </p:grpSpPr>
        <p:pic>
          <p:nvPicPr>
            <p:cNvPr id="125" name="im10" descr=""/>
            <p:cNvPicPr/>
            <p:nvPr/>
          </p:nvPicPr>
          <p:blipFill>
            <a:blip r:embed="rId2"/>
            <a:stretch/>
          </p:blipFill>
          <p:spPr>
            <a:xfrm>
              <a:off x="5410080" y="2143080"/>
              <a:ext cx="27432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 flipH="1" flipV="1">
              <a:off x="6781320" y="3429000"/>
              <a:ext cx="8384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0120" y="426708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91320" y="2209680"/>
              <a:ext cx="9144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080" y="2057400"/>
              <a:ext cx="4572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57280" y="533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aramètres de surfaces élément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" y="14479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4320" y="3168720"/>
            <a:ext cx="155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Cylin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0600" y="3646440"/>
            <a:ext cx="939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29480" y="1295280"/>
            <a:ext cx="10663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ô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Vers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Vers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91960" y="3255840"/>
            <a:ext cx="1358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Sph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943600"/>
            <a:ext cx="8534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imes New Roman"/>
              </a:rPr>
              <a:t>Cliquez sur un des noms pour ouvrir le fichier SW corresponda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imes New Roman"/>
              </a:rPr>
              <a:t>Double-cliquez ensuite sur la base révolution pour accéder aux 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im14" descr=""/>
          <p:cNvPicPr/>
          <p:nvPr/>
        </p:nvPicPr>
        <p:blipFill>
          <a:blip r:embed="rId6"/>
          <a:stretch/>
        </p:blipFill>
        <p:spPr>
          <a:xfrm>
            <a:off x="3606840" y="3886200"/>
            <a:ext cx="192888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im13" descr=""/>
          <p:cNvPicPr/>
          <p:nvPr/>
        </p:nvPicPr>
        <p:blipFill>
          <a:blip r:embed="rId7"/>
          <a:stretch/>
        </p:blipFill>
        <p:spPr>
          <a:xfrm>
            <a:off x="6095880" y="1324080"/>
            <a:ext cx="1658880" cy="2104920"/>
          </a:xfrm>
          <a:prstGeom prst="rect">
            <a:avLst/>
          </a:prstGeom>
          <a:ln w="0">
            <a:noFill/>
          </a:ln>
        </p:spPr>
      </p:pic>
      <p:pic>
        <p:nvPicPr>
          <p:cNvPr id="139" name="im12" descr=""/>
          <p:cNvPicPr/>
          <p:nvPr/>
        </p:nvPicPr>
        <p:blipFill>
          <a:blip r:embed="rId8"/>
          <a:stretch/>
        </p:blipFill>
        <p:spPr>
          <a:xfrm>
            <a:off x="6629400" y="4191120"/>
            <a:ext cx="1990800" cy="1636560"/>
          </a:xfrm>
          <a:prstGeom prst="rect">
            <a:avLst/>
          </a:prstGeom>
          <a:ln w="0">
            <a:noFill/>
          </a:ln>
        </p:spPr>
      </p:pic>
      <p:pic>
        <p:nvPicPr>
          <p:cNvPr id="140" name="im11" descr=""/>
          <p:cNvPicPr/>
          <p:nvPr/>
        </p:nvPicPr>
        <p:blipFill>
          <a:blip r:embed="rId9"/>
          <a:stretch/>
        </p:blipFill>
        <p:spPr>
          <a:xfrm>
            <a:off x="1295280" y="1143000"/>
            <a:ext cx="2581560" cy="1538280"/>
          </a:xfrm>
          <a:prstGeom prst="rect">
            <a:avLst/>
          </a:prstGeom>
          <a:ln w="0">
            <a:noFill/>
          </a:ln>
        </p:spPr>
      </p:pic>
      <p:pic>
        <p:nvPicPr>
          <p:cNvPr id="141" name="im15" descr=""/>
          <p:cNvPicPr/>
          <p:nvPr/>
        </p:nvPicPr>
        <p:blipFill>
          <a:blip r:embed="rId10"/>
          <a:stretch/>
        </p:blipFill>
        <p:spPr>
          <a:xfrm>
            <a:off x="380880" y="3886200"/>
            <a:ext cx="2219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90440" y="380880"/>
            <a:ext cx="69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xemples de surfaces réelles s’approchant des modèles géomét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971800" y="6019920"/>
            <a:ext cx="5181480" cy="609480"/>
            <a:chOff x="2971800" y="6019920"/>
            <a:chExt cx="5181480" cy="609480"/>
          </a:xfrm>
        </p:grpSpPr>
        <p:sp>
          <p:nvSpPr>
            <p:cNvPr id="144" name=""/>
            <p:cNvSpPr/>
            <p:nvPr/>
          </p:nvSpPr>
          <p:spPr>
            <a:xfrm>
              <a:off x="2971800" y="6019920"/>
              <a:ext cx="51814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41000" y="617220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ahoma"/>
                </a:rPr>
                <a:t>Cylind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92000" y="617076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ahoma"/>
                </a:rPr>
                <a:t>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61040" y="617076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66ff"/>
                  </a:solidFill>
                  <a:latin typeface="Tahoma"/>
                </a:rPr>
                <a:t>Cô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4760" y="6170760"/>
              <a:ext cx="88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Sphè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1880" y="6172200"/>
              <a:ext cx="6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im16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2303640" cy="2819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013040" y="1940040"/>
            <a:ext cx="86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B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29400" y="193824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traîn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14680" y="19382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im18" descr=""/>
          <p:cNvPicPr/>
          <p:nvPr/>
        </p:nvPicPr>
        <p:blipFill>
          <a:blip r:embed="rId3"/>
          <a:stretch/>
        </p:blipFill>
        <p:spPr>
          <a:xfrm>
            <a:off x="6553080" y="2554200"/>
            <a:ext cx="2033640" cy="2381400"/>
          </a:xfrm>
          <a:prstGeom prst="rect">
            <a:avLst/>
          </a:prstGeom>
          <a:ln w="0">
            <a:noFill/>
          </a:ln>
        </p:spPr>
      </p:pic>
      <p:pic>
        <p:nvPicPr>
          <p:cNvPr id="155" name="im17" descr=""/>
          <p:cNvPicPr/>
          <p:nvPr/>
        </p:nvPicPr>
        <p:blipFill>
          <a:blip r:embed="rId4"/>
          <a:stretch/>
        </p:blipFill>
        <p:spPr>
          <a:xfrm>
            <a:off x="3081240" y="2590920"/>
            <a:ext cx="2981520" cy="2332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1447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Times New Roman"/>
              </a:rPr>
              <a:t>Cliquez sur un des noms pour ouvrir le fichier SW correspond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6780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36000" y="6110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de de couleur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90440" y="38088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Modèles géométriques de pièces ré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im19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714760" cy="2287800"/>
          </a:xfrm>
          <a:prstGeom prst="rect">
            <a:avLst/>
          </a:prstGeom>
          <a:ln w="0">
            <a:noFill/>
          </a:ln>
        </p:spPr>
      </p:pic>
      <p:pic>
        <p:nvPicPr>
          <p:cNvPr id="161" name="im20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614680" cy="1994040"/>
          </a:xfrm>
          <a:prstGeom prst="rect">
            <a:avLst/>
          </a:prstGeom>
          <a:ln w="0">
            <a:noFill/>
          </a:ln>
        </p:spPr>
      </p:pic>
      <p:pic>
        <p:nvPicPr>
          <p:cNvPr id="162" name="im21" descr=""/>
          <p:cNvPicPr/>
          <p:nvPr/>
        </p:nvPicPr>
        <p:blipFill>
          <a:blip r:embed="rId3"/>
          <a:stretch/>
        </p:blipFill>
        <p:spPr>
          <a:xfrm>
            <a:off x="5715000" y="3886200"/>
            <a:ext cx="2219400" cy="1989000"/>
          </a:xfrm>
          <a:prstGeom prst="rect">
            <a:avLst/>
          </a:prstGeom>
          <a:ln w="0">
            <a:noFill/>
          </a:ln>
        </p:spPr>
      </p:pic>
      <p:pic>
        <p:nvPicPr>
          <p:cNvPr id="163" name="im22" descr=""/>
          <p:cNvPicPr/>
          <p:nvPr/>
        </p:nvPicPr>
        <p:blipFill>
          <a:blip r:embed="rId4"/>
          <a:stretch/>
        </p:blipFill>
        <p:spPr>
          <a:xfrm>
            <a:off x="2286000" y="3733920"/>
            <a:ext cx="2652840" cy="21063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2971800" y="6019920"/>
            <a:ext cx="5181480" cy="609480"/>
            <a:chOff x="2971800" y="6019920"/>
            <a:chExt cx="5181480" cy="609480"/>
          </a:xfrm>
        </p:grpSpPr>
        <p:sp>
          <p:nvSpPr>
            <p:cNvPr id="165" name=""/>
            <p:cNvSpPr/>
            <p:nvPr/>
          </p:nvSpPr>
          <p:spPr>
            <a:xfrm>
              <a:off x="2971800" y="6019920"/>
              <a:ext cx="51814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1000" y="617220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ahoma"/>
                </a:rPr>
                <a:t>Cylind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92000" y="617076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ahoma"/>
                </a:rPr>
                <a:t>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617076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66ff"/>
                  </a:solidFill>
                  <a:latin typeface="Tahoma"/>
                </a:rPr>
                <a:t>Cô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24760" y="6170760"/>
              <a:ext cx="88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Sphè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61880" y="6172200"/>
              <a:ext cx="6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936000" y="6110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de de couleur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07480" y="457200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h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65880" y="46306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uve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28840" y="114300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xe hexag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2520" y="106668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xe épa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21:06:00Z</dcterms:created>
  <dc:creator>breneur</dc:creator>
  <dc:description/>
  <dc:language>en-US</dc:language>
  <cp:lastModifiedBy>breneur</cp:lastModifiedBy>
  <dcterms:modified xsi:type="dcterms:W3CDTF">2006-01-20T14:02:49Z</dcterms:modified>
  <cp:revision>64</cp:revision>
  <dc:subject/>
  <dc:title>Présentation PowerPoint</dc:title>
</cp:coreProperties>
</file>